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0BB1-8408-44D6-93AB-17B906036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31D0-7A16-465E-9643-4AAAB7AC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1AED-11EF-4CDC-B26B-0EF82EF6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2CB2-F5E4-4BC4-A103-0A4C2D88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D45A2-37AE-46C9-9BD1-F246BC54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3C395-4845-42CE-87E1-35895E3B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907AF-F95B-48C1-98CF-6BE2198E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E5088-8293-4F89-90A0-14B47574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52208-2F01-4A55-9D72-A3E164CA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71814-D7AF-4398-8390-722AC194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4DC25-5E07-44EC-9002-FBD19BE6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C07A-23EE-4116-AAAF-0951E71C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41B59-5B41-4C1E-A876-BE14D25C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5F304-5774-46C0-B582-9D253CF4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AE460-ACD1-40B3-997A-D0C7A94A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DBED4-0ACA-41BA-B630-199F66EC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C9026-96D7-4260-AAB5-1AB5DDBF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3AF5-4CC5-4005-83B7-9B669EB3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6DDA-4E4F-471C-ABF2-249C6186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21EC-D2DF-4D83-AE42-24EFFD7E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8871-8FF7-4735-AE09-C402F4BC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3B2B-915C-46E5-B830-CCF1F3C0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D3D6-8022-4684-A226-794AD966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966B-40D2-48E1-A367-EF2E213D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BB86-CDC7-4CC0-B3BB-C9297639F7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222A-6756-4F31-A201-C9106778AB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deltaweb.co.uk/eagles/shows/silver01_16.jpg&amp;imgrefurl=http://www.deltaweb.co.uk/eagles/silver01_01.htm&amp;h=384&amp;w=512&amp;sz=107&amp;hl=en&amp;start=1&amp;tbnid=_p2dmy_6gLDPTM:&amp;tbnh=113&amp;tbnw=150&amp;prev=/images%3Fq%3Dformula%2Bone%2Bcars%26gbv%3D2%26svnum%3D10%26hl%3De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nationalspeedsportnews.com/photos/F1_Kimi_Race_McClaren.jpg&amp;imgrefurl=http://www.nationalspeedsportnews.com/finallap.html%3FIssueDate%3D1032321600&amp;h=327&amp;w=450&amp;sz=59&amp;hl=en&amp;start=13&amp;tbnid=pdaLOTrVFv0BxM:&amp;tbnh=92&amp;tbnw=127&amp;prev=/images%3Fq%3Dformula%2Bone%2Bcars%26gbv%3D2%26svnum%3D10%26hl%3Den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hexcel.com/NR/rdonlyres/4E6AB282-D66C-4C81-ADCB-35F01ABB609F/0/ferrari.jpg&amp;imgrefurl=http://www.hexcel.com/Markets/Automotive/Motorsport.htm&amp;h=260&amp;w=326&amp;sz=8&amp;hl=en&amp;start=16&amp;tbnid=kSJidmukZwX89M:&amp;tbnh=94&amp;tbnw=118&amp;prev=/images%3Fq%3Dformula%2Bone%2Bcars%26gbv%3D2%26svnum%3D10%26hl%3De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ev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ula one race c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cts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go fa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re l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re very quick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team also builds a Formula One c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0"/>
            <a:ext cx="388620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cts 2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ngine sits in back of the c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am has to follow a set of rules to build the c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uspension connects the wheels to the c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odywork covers the eng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72200" y="0"/>
            <a:ext cx="2971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4 more interesting fac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nd Prix races are about 190 miles lo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ula One cars drive at about 200 miles per hou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enty cars race in a Grand Pri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pit stops are only 5 seconds lo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672080"/>
            <a:ext cx="27432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cts 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start to speed around the trac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ormula One race is called a Grand Pri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river sits in the cockp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rack is curv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495680" y="3784680"/>
            <a:ext cx="464832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cts 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car has had an accid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clothes keep him safe from fi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am in the pit gives the car more g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river’s car protected hi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6:25:43Z</dcterms:created>
  <dc:creator>steven.lebreton</dc:creator>
  <dc:description/>
  <dc:language>en-US</dc:language>
  <cp:lastModifiedBy>steven.lebreton</cp:lastModifiedBy>
  <dcterms:modified xsi:type="dcterms:W3CDTF">2007-05-08T16:42:10Z</dcterms:modified>
  <cp:revision>5</cp:revision>
  <dc:subject/>
  <dc:title>Stev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